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115-4791-4534-9346-E5713CB9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390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3D1-BFFE-4DAC-BCC1-F5D8145E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6D9-E699-440F-AC5F-BD6B4C1A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8FA-3A41-4EB2-8464-5E51EBA2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FA40-32B7-44B5-9FB6-CD7C8D7C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75A-A8AE-4C87-8752-66BA6C26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B626-01DC-4D2C-B6CA-F9931581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3960-750F-4B60-A5F0-96D5D5A7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7892-18B3-4731-A2B4-5B8654E3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68CA-2182-4B31-AB0B-F962BD2E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3D99-0D01-4F00-A6F8-6D29E60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560-7B01-43DE-87E0-6FA46E2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56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6972-760A-4326-BBC5-8844F044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3999-1550-45D5-9571-0E0ED5EC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8390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B3F1-0D8D-4E74-ADF2-97394DD8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56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B260-689A-479C-AFC6-54CA3C15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056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D21D-DD5C-4D73-8A10-70D12614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6E0-6489-4A1F-94A5-FDFE1510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5D4-E257-4C53-99BA-3B270CFC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542-6FED-4CAA-BCEC-E0EE0059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252-DC6D-4600-BCD3-891E5336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D11-F11C-47D7-8C8F-9E360F8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7E4-1A77-44CE-ACDB-7C2E1F56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52F-6C50-46E9-9520-F8E6AAD9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7CD0-3289-42BA-BE38-83F7BE02A6A7}" type="slidenum"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FB9F-69D0-46DD-9592-91BF71579786}" type="slidenum"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ebf5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ebf5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Go Tell The Good News – Part 2</a:t>
            </a:r>
            <a:endParaRPr b="1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4723920"/>
            <a:ext cx="7848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5ff"/>
                </a:solidFill>
                <a:latin typeface="Arial"/>
              </a:rPr>
              <a:t>Quarter 12, Lesson 1</a:t>
            </a: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5ff"/>
                </a:solidFill>
                <a:latin typeface="Arial"/>
              </a:rPr>
              <a:t>Acts 18:23 – 19:9</a:t>
            </a: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5ff"/>
                </a:solidFill>
                <a:latin typeface="Arial"/>
              </a:rPr>
              <a:t>Pages 121-125</a:t>
            </a: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ree Months in the Synagogue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Jews will soon discover that they are no longer on the same page with Paul in their view of scripture and the Messiah – 19:8-9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ey will begin speaking evil of the way of Chris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Paul and the disciples will have to move on to a school house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ul’s Third Missionary Journey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Late 53 AD or Early 54 AD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Claudius died in AD 54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Nero became the Emperor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Books written on Third Journey: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Galatians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1 Corinthians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2 Corinthians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Romans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ul’s Third Journey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906480"/>
            <a:ext cx="9144000" cy="5951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What IS The General Area of Galatia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1251000"/>
            <a:ext cx="8534520" cy="5541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Where Is Phrygia?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hurches of Galatia and Phrygia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590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Derbe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Lystra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Iconium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Antioch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75080" y="1474920"/>
            <a:ext cx="5440320" cy="459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45720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Paul Comes Back On Third Journey To “Strengthen” The Brethren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62485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His Route on His First Missionary Journey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Apollos Comes To Ephesu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Acts 18:24-28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Apollos was a skilled and powerful preacher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But, He knew only what John the Baptist taught about the coming Messiah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Aquila and Priscilla took him aside and teach him more perfectly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He went to Greece to help in the gosp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He defended what the Jews attacked: Jesus really was/is the Christ (Messiah)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ul Comes To Ephesu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4724280" cy="401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772080" y="282888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3048120"/>
            <a:ext cx="22860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Paul Meets Twelve Former Disciples of John the Baptist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What Paul Asks Them: (Acts 19:1-2)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Did you receive the Holy Spirit when you believed?”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How They Answer Him: (v.2-7)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They had not even heard of the Holy Spirit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Clarification of Jesus’ ministry, identity, and follow-up work of the Holy Spirit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Their Baptism in Jesus’ name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Same action as before, but with up-to-date information about the Messiah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Followed by imparting the Holy Spirit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7:31:35Z</dcterms:created>
  <dc:creator>Terry W. Benton</dc:creator>
  <dc:description/>
  <dc:language>en-US</dc:language>
  <cp:lastModifiedBy>Frank D Vines</cp:lastModifiedBy>
  <dcterms:modified xsi:type="dcterms:W3CDTF">2006-12-21T02:58:35Z</dcterms:modified>
  <cp:revision>4</cp:revision>
  <dc:subject/>
  <dc:title>Go Tell The Good News –Part 2</dc:title>
</cp:coreProperties>
</file>